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5D7C-DE40-46E0-99F4-AD59C8E31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698A-2CFB-4BBA-A6DC-D2FD3B5B9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1684-63C3-4DA7-BA0B-F68B735DB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B59F-98BD-47B5-9E55-2770FEA26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8FBCB-300F-45A9-B643-BEB44B103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C6FEA-55EF-46EC-A7E2-D688CB86C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CBA38-5FF3-40C2-B29A-1FB775E31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7629B-38B8-4CFD-9643-4A1F69EA2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895F0-D782-42A4-872E-0B084E8A6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81077-25B9-48E0-813B-B000597C8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742B4-C419-46D1-971D-15BDD7E55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C2BB-838D-4B92-8D7E-04E3FAD57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9A635-08A0-4EE0-9B39-FA9DC004D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AF889-6B4A-48FE-9554-769A0E275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27E39-D3C2-43D5-8760-B0B3A584A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4E27E-4E06-452C-8BD9-C313B8234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AFAE4-E015-4B4C-B72F-4351CF80A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6F39-C0B4-4F5D-8F3B-23D0486AA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E377-5976-4247-A48C-8403FBF34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7280-273C-45AD-AA1D-414B16EF2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FBCB-5FCD-4781-9ACD-7F8A47072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5527-95A5-438E-A220-677614277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024A-5825-46CA-BADD-FA330293C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E16C-CFA1-4C62-B445-9B28FB4E2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6700A-4FF1-4F5C-90CB-B71191A7C0C1}" type="slidenum">
              <a:rPr b="0" lang="ar-SA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693A5-26DA-4EF2-AF45-3E64F43F6993}" type="slidenum">
              <a:rPr b="0" lang="ar-SA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4400" spc="-1" strike="noStrike">
                <a:solidFill>
                  <a:srgbClr val="ffff00"/>
                </a:solidFill>
                <a:latin typeface="Tahoma"/>
              </a:rPr>
              <a:t>الوقاية من العنف الأسري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2400" spc="-1" strike="noStrike">
                <a:solidFill>
                  <a:srgbClr val="ffffff"/>
                </a:solidFill>
                <a:latin typeface="Tahoma"/>
              </a:rPr>
              <a:t>د. فضيلة المحروس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2400" spc="-1" strike="noStrike">
                <a:solidFill>
                  <a:srgbClr val="ffffff"/>
                </a:solidFill>
                <a:latin typeface="Tahoma"/>
              </a:rPr>
              <a:t>لجنة حماية الطفل – وزارة الصحة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، </a:t>
            </a:r>
            <a:r>
              <a:rPr b="1" lang="ar-BH" sz="2400" spc="-1" strike="noStrike">
                <a:solidFill>
                  <a:srgbClr val="ffffff"/>
                </a:solidFill>
                <a:latin typeface="Tahoma"/>
              </a:rPr>
              <a:t>البحرين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المؤتمر العربي الاقليمي  لحماية الأسرة من العن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2400" spc="-1" strike="noStrike">
                <a:solidFill>
                  <a:srgbClr val="ffffff"/>
                </a:solidFill>
                <a:latin typeface="Tahoma"/>
              </a:rPr>
              <a:t>عمان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13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-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15</a:t>
            </a:r>
            <a:r>
              <a:rPr b="1" lang="ar-BH" sz="2400" spc="-1" strike="noStrike">
                <a:solidFill>
                  <a:srgbClr val="ffffff"/>
                </a:solidFill>
                <a:latin typeface="Tahoma"/>
              </a:rPr>
              <a:t>ديسمبر </a:t>
            </a:r>
            <a:r>
              <a:rPr b="1" lang="ar-BH" sz="2400" spc="-1" strike="noStrike">
                <a:solidFill>
                  <a:srgbClr val="ffffff"/>
                </a:solidFill>
                <a:latin typeface="Tahoma"/>
              </a:rPr>
              <a:t>200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ahoma"/>
              </a:rPr>
              <a:t>أهم التحديات في مواجهة</a:t>
            </a:r>
            <a:r>
              <a:rPr b="1" lang="ar-BH" sz="3200" spc="-1" strike="noStrike">
                <a:solidFill>
                  <a:srgbClr val="eaeaea"/>
                </a:solidFill>
                <a:latin typeface="Tahoma"/>
              </a:rPr>
              <a:t> العنف الاسري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ال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حصانة 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ال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جتماعية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و القانونية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 لدى الرجل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عدم امتلاك المرأة لقرار الطلاق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و حق الرجل المطل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عدم وجود البدائل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الأفضل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عدم توفر الخدمات الحكومية او الدعم من مؤسسات المجتمع المدني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600" spc="-1" strike="noStrike">
                <a:solidFill>
                  <a:srgbClr val="eaeaea"/>
                </a:solidFill>
                <a:latin typeface="Tahoma"/>
              </a:rPr>
              <a:t>الوقاية من العنف </a:t>
            </a: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:</a:t>
            </a:r>
            <a:r>
              <a:rPr b="1" lang="ar-BH" sz="3600" spc="-1" strike="noStrike">
                <a:solidFill>
                  <a:srgbClr val="eaeaea"/>
                </a:solidFill>
                <a:latin typeface="Tahoma"/>
              </a:rPr>
              <a:t> انهاء الحصانة </a:t>
            </a: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القانونية</a:t>
            </a:r>
            <a:r>
              <a:rPr b="1" lang="ar-BH" sz="4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r" rtl="1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حظر العنف و تجريمه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مؤامة قوانين الاسرة مع حقوق الانسان و الاتفاقيات الدولية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و 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لاستناد الى سماحة الشريعة و ليس التفسير الضيق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لها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أصلاح القضاء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العنف الأسري  في البرامج التعليمية و التدريبية للقضاة و الشرط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ورش عمل متعددة التخصصات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600" spc="-1" strike="noStrike">
                <a:solidFill>
                  <a:srgbClr val="eaeaea"/>
                </a:solidFill>
                <a:latin typeface="Tahoma"/>
              </a:rPr>
              <a:t>الوقاية من العنف </a:t>
            </a: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:</a:t>
            </a:r>
            <a:r>
              <a:rPr b="1" lang="ar-BH" sz="3600" spc="-1" strike="noStrike">
                <a:solidFill>
                  <a:srgbClr val="eaeaea"/>
                </a:solidFill>
                <a:latin typeface="Tahoma"/>
              </a:rPr>
              <a:t> انهاء الحصانة الاجتماعية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تغيير النفوس قبل النصوص \ تغيير القيم الاجتماعي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لنظر للعنف الاسري كقضية اجتماعية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وصحية و قانوني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لعنف الاسري هو ايذاء و سوء معاملة و انتهاك 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ل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حقوق الانسان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و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 ليس تأديب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ا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 للمرأة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لمطلوب وضع حدا للعنف و ليس للحياة الزوجي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4000" spc="-1" strike="noStrike">
                <a:solidFill>
                  <a:srgbClr val="eaeaea"/>
                </a:solidFill>
                <a:latin typeface="Tahoma"/>
              </a:rPr>
              <a:t>الوقاية من العنف -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التصدي للعوامل المسببة أو المترافقة مع العنف  مثل محاربة الأمية ، الجهل ، الفقر و البطالة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وضع حدا للزواج المبكر و التب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ين العمري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تنمية المهارات الوالدي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لتنشئة الاجتماعية و نبذ العنف كأسلوب لحل الخلافات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مكاتب للتوجيه و الارشاد الاسري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توعية المجتمع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حول الظاهر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جراء دراسات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 حول العن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imes New Roman"/>
                <a:cs typeface="Times New Roman"/>
              </a:rPr>
              <a:t>واقع سوء معاملة الأطفال في الوطن العربي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320" y="2130120"/>
            <a:ext cx="7543800" cy="35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r" rtl="1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00"/>
                </a:solidFill>
                <a:latin typeface="Tahoma"/>
              </a:rPr>
              <a:t>هناك العديد من الأطفال يعانون من سوء المعاملة و المجتمع عاجز عن حمايته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r" rtl="1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نادرا ما يتحمل المعتدين مسئولية خطأهم و يستمرون في سلوكه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r" rtl="1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00"/>
                </a:solidFill>
                <a:latin typeface="Tahoma"/>
              </a:rPr>
              <a:t>محدودية صلاحيات و امكانيات الجهات المعنية بالحماية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r" rtl="1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00"/>
                </a:solidFill>
                <a:latin typeface="Tahoma"/>
              </a:rPr>
              <a:t>التنسيق بين الجهات المعنية دون المستوى المطلوب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cc"/>
                </a:solidFill>
                <a:latin typeface="Tahoma"/>
              </a:rPr>
              <a:t>التحديات التي تعرقل جهود التدخل و الوقاية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Tahoma"/>
              </a:rPr>
              <a:t>الظروف الاقتصادية للعائلة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Tahoma"/>
              </a:rPr>
              <a:t>القيم و المفاهيم والسلوكيات الاجتماعية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Tahoma"/>
              </a:rPr>
              <a:t>قصور التشريعات الوطنية و عدم موأمتها لاتفاقية حقوق الطفل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Tahoma"/>
              </a:rPr>
              <a:t>عدم كفاية الردعية في العقوبات المقررة بحق المعتدين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Tahoma"/>
              </a:rPr>
              <a:t>جهاز قضائي غير مهيأ لتلبية احتياجات الاطفال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eaeaea"/>
                </a:solidFill>
                <a:latin typeface="Times New Roman"/>
                <a:cs typeface="Times New Roman"/>
              </a:rPr>
              <a:t>الوقاية</a:t>
            </a:r>
            <a:r>
              <a:rPr b="1" lang="en-US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الاولية:</a:t>
            </a:r>
            <a:r>
              <a:rPr b="1" lang="ar-SA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الاسرة</a:t>
            </a:r>
            <a:r>
              <a:rPr b="0" lang="ar-SA" sz="5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5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 algn="r" rtl="1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Tahoma"/>
              </a:rPr>
              <a:t>تدريس المهارات الاجتماعية و الحياتية  بالمدار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67480" indent="-267480" algn="r" rtl="1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Tahoma"/>
              </a:rPr>
              <a:t>تدريس الصحة الانجابية بالمدار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67480" indent="-267480" algn="r" rtl="1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Tahoma"/>
              </a:rPr>
              <a:t>الثقافة الأسرية و التدبير المنزلي لكل  المقبلين على الزواج ذكورا  و  إناثا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67480" indent="-267480" algn="r" rtl="1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سن قانون الزامية التعليم و وضع آليات تنفيذه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67480" indent="-267480" algn="r" rtl="1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قانون لل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ا</a:t>
            </a: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حوال الشخصية ( سن الزواج &lt; </a:t>
            </a: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18</a:t>
            </a: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 سنة 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67480" indent="-267480" algn="r" rtl="1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تمكين الاسرة العربية =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674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        </a:t>
            </a:r>
            <a:r>
              <a:rPr b="1" lang="ar-SA" sz="3200" spc="-1" strike="noStrike">
                <a:solidFill>
                  <a:srgbClr val="ffffcc"/>
                </a:solidFill>
                <a:latin typeface="Arial"/>
              </a:rPr>
              <a:t>تعليم + عمل + مسكن + ثقافة أسرية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eaea"/>
                </a:solidFill>
                <a:latin typeface="Times New Roman"/>
                <a:cs typeface="Times New Roman"/>
              </a:rPr>
              <a:t>التدخل و العلاج – الوقاية الثالثة</a:t>
            </a:r>
            <a:r>
              <a:rPr b="0" lang="en-US" sz="5400" spc="-1" strike="noStrike">
                <a:solidFill>
                  <a:srgbClr val="eaeaea"/>
                </a:solidFill>
                <a:latin typeface="Tahoma"/>
                <a:ea typeface="Andalus"/>
              </a:rPr>
              <a:t> </a:t>
            </a:r>
            <a:endParaRPr b="1" lang="en-US" sz="5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r" rtl="1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ahoma"/>
              </a:rPr>
              <a:t>مراكز لتقديم الخدمة الصحية و النفسية و الاجتماعية  و القانونية لضحايا الاعتداء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r" rtl="1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ahoma"/>
              </a:rPr>
              <a:t>إعطاء صلاحيات و إمكانيات اكبر و تفرغ للهيئات المعنية بحماية الطفل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r" rtl="1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ahoma"/>
              </a:rPr>
              <a:t>آليات واضحة للتنسيق بين وزارات الصحة ، التعليم ، الشئون الاجتماعية ، العدل و الداخلية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r" rtl="1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ahoma"/>
              </a:rPr>
              <a:t>تأهيل المعتدين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r" rtl="1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ahoma"/>
              </a:rPr>
              <a:t> بحوث ميدانية بمنهجية علمية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r" rtl="1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تدريب المهنيين المستمر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imes New Roman"/>
                <a:cs typeface="Times New Roman"/>
              </a:rPr>
              <a:t>الوقاية </a:t>
            </a:r>
            <a:r>
              <a:rPr b="1" lang="en-US" sz="4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1</a:t>
            </a:r>
            <a:r>
              <a:rPr b="1" lang="en-US" sz="4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+</a:t>
            </a:r>
            <a:r>
              <a:rPr b="1" lang="en-US" sz="4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2</a:t>
            </a:r>
            <a:r>
              <a:rPr b="1" lang="en-US" sz="4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+</a:t>
            </a:r>
            <a:r>
              <a:rPr b="1" lang="en-US" sz="4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3</a:t>
            </a:r>
            <a:r>
              <a:rPr b="1" lang="en-US" sz="4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– القانون و تطبيق العدالة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Tahoma"/>
              </a:rPr>
              <a:t>مراجعة و تعديل القوانين المتعلقة بحماية الطفل و موأمتها مع الاتفاقية الدولية لحقوق الطفل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Tahoma"/>
              </a:rPr>
              <a:t>ايجاد جهاز قضائي متخصص و متحسس و متجاوب مع حاجات الطفل و تعقيدات الاعتداءات ضمن نفس العائلة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Tahoma"/>
              </a:rPr>
              <a:t>تشديد العقوبات المقررة و تنفيذها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Tahoma"/>
              </a:rPr>
              <a:t>مراجعة و تعديل و تشديد القوانين المتعلقة بالعنف الاسري (ضد المرأة و الطفل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800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eaea"/>
                </a:solidFill>
                <a:latin typeface="Tahoma"/>
                <a:cs typeface="Times New Roman"/>
              </a:rPr>
              <a:t>الوقاية</a:t>
            </a:r>
            <a:r>
              <a:rPr b="1" lang="ar-SA" sz="4800" spc="-1" strike="noStrike">
                <a:solidFill>
                  <a:srgbClr val="eaeaea"/>
                </a:solidFill>
                <a:latin typeface="Tahoma"/>
                <a:ea typeface="Times New Roman"/>
              </a:rPr>
              <a:t> :  الاعلام و الثقافة</a:t>
            </a:r>
            <a:r>
              <a:rPr b="1" lang="ar-SA" sz="4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543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 algn="r" rtl="1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خطة إعلامية لمحاربة أفلام العنف و الاباحية الجنسية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53800" indent="-253800" algn="r" rtl="1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وقاية الاطفال من الاستغلال الجنسي عبر الانترنت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53800" indent="-253800" algn="r" rtl="1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الاستخدام الامثل لوسائط الاعلام للتوعية حول ظاهرة سوء المعاملة و عواقبها و الوقاية منها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53800" indent="-253800" algn="r" rtl="1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محاربة الصورة النمطية للأسرة في الشاشة العربية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5380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ar-SA" sz="3200" spc="-1" strike="noStrike">
                <a:solidFill>
                  <a:srgbClr val="ffffcc"/>
                </a:solidFill>
                <a:latin typeface="Arial"/>
              </a:rPr>
              <a:t>الأب المتسلط العنيف و الأم التي لا حول لها و لا قوة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5380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Arial"/>
              </a:rPr>
              <a:t>      و غياب التواصل و التعاطي السليم مع الخلافات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4400" spc="-1" strike="noStrike">
                <a:solidFill>
                  <a:srgbClr val="eaeaea"/>
                </a:solidFill>
                <a:latin typeface="Tahoma"/>
              </a:rPr>
              <a:t>المحاور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ما هي المسببات \ العوامل المرافقة للعنف الاسري؟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مظاهر قبول العنف الاسري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 لماذا ترضخ النساء للعنف؟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لتصدي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لوقاي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الوقاية من ايذاء الأطفال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ar-SA" sz="4000" spc="-1" strike="noStrike">
                <a:solidFill>
                  <a:srgbClr val="eaeaea"/>
                </a:solidFill>
                <a:latin typeface="Tahoma"/>
              </a:rPr>
              <a:t>الخلاصة التعاطي مع </a:t>
            </a: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العنف الأسري</a:t>
            </a:r>
            <a:r>
              <a:rPr b="1" lang="ar-SA" sz="4000" spc="-1" strike="noStrike">
                <a:solidFill>
                  <a:srgbClr val="eaeaea"/>
                </a:solidFill>
                <a:latin typeface="Tahoma"/>
              </a:rPr>
              <a:t> يتطلب</a:t>
            </a: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: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r" rtl="1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</a:rPr>
              <a:t>فهم أعمق للمشكلة يستند على الحقائق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 algn="r" rtl="1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</a:rPr>
              <a:t>رؤية مستقبلية ذات اهداف واضحة و محددة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 algn="r" rtl="1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</a:rPr>
              <a:t>اقرار الترابط بين الوقاية و التدخل و تحميل الجاني المسئولية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 algn="r" rtl="1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الشراكة و 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</a:rPr>
              <a:t>العمل معا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 algn="r" rtl="1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كسر الحلقة المفرغة  من أين نبدأ؟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4400" spc="-1" strike="noStrike">
                <a:solidFill>
                  <a:srgbClr val="eaeaea"/>
                </a:solidFill>
                <a:latin typeface="Tahoma"/>
              </a:rPr>
              <a:t>حجم المشكلة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30%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  البحرين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34%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 مصر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52%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 الضفة الغربية و قطاع غزة (السنة الماضية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1066320" y="1828440"/>
            <a:ext cx="7543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r" rtl="1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r" rtl="1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في 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مسيرة جماهيرية كبيرة تعتبر الأكبر من حيث العدد في تاريخ البحرين قدرت بحوالي مائة وعشرين ألف مشارك من الجنسين تقدمها علماء الدين عصر يوم اليوم الأربعاء</a:t>
            </a:r>
            <a:r>
              <a:rPr b="1" lang="ar-BH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ar-BH" sz="24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BH" sz="2400" spc="-1" strike="noStrike">
                <a:solidFill>
                  <a:srgbClr val="ffffff"/>
                </a:solidFill>
                <a:latin typeface="Tahoma"/>
              </a:rPr>
              <a:t> نوفمبر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 في منطقة المنامة ط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لبت بضمانات شرعية وفقهية لإصدار قانون أحكام الأسرة الذي تنوي السلطة البحرينية إصداره.</a:t>
            </a:r>
            <a:br>
              <a:rPr sz="2400"/>
            </a:br>
            <a:br>
              <a:rPr sz="2400"/>
            </a:b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وكانت المسيرة قد بدأ من منحنى مجمع جيان في منطقة سنابس </a:t>
            </a:r>
            <a:r>
              <a:rPr b="1" lang="ar-BH" sz="2400" spc="-1" strike="noStrike">
                <a:solidFill>
                  <a:srgbClr val="ffffff"/>
                </a:solidFill>
                <a:latin typeface="Tahoma"/>
              </a:rPr>
              <a:t>بينما 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وصل رأس المسيرة إلى بداية كوبري اللؤلؤة حيث قدر طولها بكيلومترين، وبعرض ثلاثين شخص في كل صف في المتوسط.</a:t>
            </a:r>
            <a:br>
              <a:rPr sz="2400"/>
            </a:br>
            <a:br>
              <a:rPr sz="2400"/>
            </a:b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2286000" y="838080"/>
            <a:ext cx="5867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286000" y="5715000"/>
            <a:ext cx="5181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4000" spc="-1" strike="noStrike">
                <a:solidFill>
                  <a:srgbClr val="eaeaea"/>
                </a:solidFill>
                <a:latin typeface="Tahoma"/>
              </a:rPr>
              <a:t>في مصر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80%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 من النساء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65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 % من المتعلمات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69%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 من العاملات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يوافقن على حق الرجل في ضرب المرأ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لاسباب المبررة: رفض الجنس ، عدم طاعة الرجل ، إهمال الاطفال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600" spc="-1" strike="noStrike">
                <a:solidFill>
                  <a:srgbClr val="eaeaea"/>
                </a:solidFill>
                <a:latin typeface="Tahoma"/>
              </a:rPr>
              <a:t>ما هي المسببات \ العوامل المرافقة للعنف الاسري</a:t>
            </a:r>
            <a:r>
              <a:rPr b="1" lang="ar-BH" sz="4800" spc="-1" strike="noStrike">
                <a:solidFill>
                  <a:srgbClr val="eaeaea"/>
                </a:solidFill>
                <a:latin typeface="Tahoma"/>
              </a:rPr>
              <a:t>؟</a:t>
            </a: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 algn="r" rtl="1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لتعرض للعنف كطفل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و حلقة العنف المفرغ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r" rtl="1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لوضع الاقتصادي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r" rtl="1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تدني التحصيل العلمي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r" rtl="1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تدني المهارات الاجتماعية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r" rtl="1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تدني المهارات 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الوالدية 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و التواصل العائلي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r" rtl="1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ضطراب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ات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 الشخصية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و الأمراض النفسية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r" rtl="1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 الادمان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r" rtl="1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لقيم الاجتماعية و التقالي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r" rtl="1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لقانون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600" spc="-1" strike="noStrike">
                <a:solidFill>
                  <a:srgbClr val="eaeaea"/>
                </a:solidFill>
                <a:latin typeface="Tahoma"/>
              </a:rPr>
              <a:t>القيم الاجتماعية و التقاليد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2819160"/>
            <a:ext cx="75438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r" rtl="1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2800" spc="-1" strike="noStrike">
                <a:solidFill>
                  <a:srgbClr val="ffff00"/>
                </a:solidFill>
                <a:latin typeface="Tahoma"/>
              </a:rPr>
              <a:t>تجاهل العنف و تحمله بل و قبوله اجتماعيا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2800" spc="-1" strike="noStrike">
                <a:solidFill>
                  <a:srgbClr val="ffff00"/>
                </a:solidFill>
                <a:latin typeface="Tahoma"/>
              </a:rPr>
              <a:t>رفض العنف الاسري = هدم القيم العائلية و التقاليد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!!!</a:t>
            </a:r>
            <a:r>
              <a:rPr b="1" lang="ar-BH" sz="28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2800" spc="-1" strike="noStrike">
                <a:solidFill>
                  <a:srgbClr val="ffff00"/>
                </a:solidFill>
                <a:latin typeface="Tahoma"/>
              </a:rPr>
              <a:t>بقاء الاسرة معا تعلو فوق 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كل اعتبار!!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2800" spc="-1" strike="noStrike">
                <a:solidFill>
                  <a:srgbClr val="ffff00"/>
                </a:solidFill>
                <a:latin typeface="Tahoma"/>
              </a:rPr>
              <a:t>العنف ال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أ</a:t>
            </a:r>
            <a:r>
              <a:rPr b="1" lang="ar-BH" sz="2800" spc="-1" strike="noStrike">
                <a:solidFill>
                  <a:srgbClr val="ffff00"/>
                </a:solidFill>
                <a:latin typeface="Tahoma"/>
              </a:rPr>
              <a:t>سري 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شأن عائلي</a:t>
            </a:r>
            <a:r>
              <a:rPr b="1" lang="ar-BH" sz="2800" spc="-1" strike="noStrike">
                <a:solidFill>
                  <a:srgbClr val="ffff00"/>
                </a:solidFill>
                <a:latin typeface="Tahoma"/>
              </a:rPr>
              <a:t> خا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العنف هو حق للرجل و تنفيذا للارادة الالهية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4400" spc="-1" strike="noStrike">
                <a:solidFill>
                  <a:srgbClr val="eaeaea"/>
                </a:solidFill>
                <a:latin typeface="Tahoma"/>
              </a:rPr>
              <a:t>القانون 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ar-BH" sz="4400" spc="-1" strike="noStrike">
                <a:solidFill>
                  <a:srgbClr val="eaeaea"/>
                </a:solidFill>
                <a:latin typeface="Tahoma"/>
              </a:rPr>
              <a:t>والعنف الاسري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لقانون اذا لم يجيزه فهو لا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يمنعه او يجرمه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فرض الزواج خصوصا المبكر و تزويج القاصر هو نوعا من العنف؟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ل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اديان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تستند  على العدالة 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و الحق 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و المودة و الرحمة ولايمكن أن 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تجيز العنف الاسري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لتفسير الضيق للشريعة لتبرير التقاليد المجتمعية 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و 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عطاء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المعنف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 الحصانة لممارسة العنف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4400" spc="-1" strike="noStrike">
                <a:solidFill>
                  <a:srgbClr val="eaeaea"/>
                </a:solidFill>
                <a:latin typeface="Tahoma"/>
              </a:rPr>
              <a:t>مظاهر قبول العنف الاسري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1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. غياب القانون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2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. تجاهل القضاة الشرعيين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3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. صعوبة اثبات الضرر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4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. غض النظر من قبل الدولة و المجتم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5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. غياب خدمات الايواء و المساعدة القانونية و الاجتماعي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6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.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القصور في خدمات الوقاي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4400" spc="-1" strike="noStrike">
                <a:solidFill>
                  <a:srgbClr val="eaeaea"/>
                </a:solidFill>
                <a:latin typeface="Tahoma"/>
              </a:rPr>
              <a:t>عدم التبليغ عن حالات العنف الاسري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لخوف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لانكار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لخشية من نبذ المجتم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قبول المجتمع للعن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ف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 الاسري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تجاهل المؤسسة الرسمي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4400" spc="-1" strike="noStrike">
                <a:solidFill>
                  <a:srgbClr val="eaeaea"/>
                </a:solidFill>
                <a:latin typeface="Tahoma"/>
              </a:rPr>
              <a:t>لماذا ترضخ النساء للعنف؟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قناعة غالبية النساء بأن هذا حقا للرجل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لاعتماد الاقتصادي على الرجل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عدم قدرة 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لمرأة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على الاستقلال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 في منزل منفصل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لضغوط الاجتماعية للحفاظ على العائل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لموقف المجتمعي من المطلق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عدم القدرة على الطلاق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و الخوف من فقدان الحضان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فقدان الامل 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في 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عدالة القضاء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وا</a:t>
            </a:r>
            <a:r>
              <a:rPr b="1" lang="ar-SA" sz="3200" spc="-1" strike="noStrike">
                <a:solidFill>
                  <a:srgbClr val="ffff00"/>
                </a:solidFill>
                <a:latin typeface="Tahoma"/>
              </a:rPr>
              <a:t>ذا المَسيرةُ سُئَلَتْ بأيّ عقلٍ خََرَجَتْ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Tahoma"/>
              </a:rPr>
              <a:t>وإذا الحماقة استُجوِبت بأي دافع كتبت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Tahoma"/>
              </a:rPr>
              <a:t>وإذا الأسئِلةُ سُئِـلَت بأي ذَنبِ قُـمِعَتْ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2T16:06:42Z</dcterms:created>
  <dc:creator>user</dc:creator>
  <dc:description/>
  <dc:language>en-US</dc:language>
  <cp:lastModifiedBy>MOHAMMED</cp:lastModifiedBy>
  <dcterms:modified xsi:type="dcterms:W3CDTF">2008-11-07T17:57:36Z</dcterms:modified>
  <cp:revision>24</cp:revision>
  <dc:subject/>
  <dc:title>الوقاية من العنف الأسري</dc:title>
</cp:coreProperties>
</file>